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05D-5945-43E5-ACF7-FEDFF4A5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8DF-1AD9-415C-9104-36D218A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0D1-3FEF-48AB-A364-3473DD3D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8B8-18D1-4C52-AE24-03E4C0A4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09B-3EDC-447E-9E4F-7381752C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517-9F85-4974-89F9-8BEEDF3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D91-18BC-454C-89F2-B4A2AF9C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35B-FB72-493E-BB48-A9441A9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73F-33D0-478B-9338-2CC7723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DF4-8897-4E7C-885C-D2754AB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028-DD67-465C-B8D5-F71BDCC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5D3-B358-4222-84AB-6E2D240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7F2-5588-4C49-9029-69B5EFFC8F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titude, mood and t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y of thinking or feeling; opinions, 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ner of expression, e.g. angry, cool, gleeful, light-hearted, s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6:19Z</dcterms:modified>
  <cp:revision>67</cp:revision>
  <dc:subject/>
  <dc:title>La Belle Dame Sans Merci</dc:title>
</cp:coreProperties>
</file>